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060E-A37E-4891-83B6-9564D8366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090F-0C3D-4AA9-8C39-606EDDE3FE10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D387-F27F-4D7D-A54C-30278B6D08FF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4A65-85F0-4F07-AACF-247836033888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8E26-7166-40FE-8CC0-91D0092510CE}" type="slidenum">
              <a:rPr b="0" lang="en-US" sz="1200" spc="-1" strike="noStrike">
                <a:solidFill>
                  <a:srgbClr val="406b8c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There are tutorials on notecards, tagging and other features of the Tabletop here: http://www.noodletools.com/helpdesk/index.php?action=downloads#category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0574-1559-4C00-AA38-036D63CF7A51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0647-C2D1-4EE1-93FE-D838E75ED980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5FB8-D17F-452A-8851-C4E1971D0BC5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71C9-E712-4C97-A470-03C594836C92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oodletools.com/noodlebib/usersguide/index.html?n=Overview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2B9D-D388-4AEA-B2B7-3AEAB6B324A4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93AC-35A3-4143-ABF8-2A544110D275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oodletools.com/noodlebib/usersguide/index.html?n=NavigatingTheTableto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DE31-4B22-4E16-8619-82BD610F1468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oodletools.com/noodlebib/usersguide/index.html?n=WhyUseAnOutlin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73B9-17E8-4B0D-99A3-9C7FA6F6F67F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A0BD-0BDD-4B1A-84DE-7E93C5312CCE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C4ED-8F69-463C-8CF1-718F87EBEDBE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D342-46FD-422C-A989-97CB1D41D530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5FD3-BC28-4514-9D2F-CF78C085EBF9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E5E3-3AA1-41D5-B8CF-A472C1E54B5A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question, teacher assignments, student collabo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0388-2981-4ADE-9653-CA96AE917432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AF19-F72C-40E0-B372-F49F1C662366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oodletools.com/noodlebib/usersguide/index.html?n=Overview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6F49-4D82-4E57-BD9B-CBBE5FBA4291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31EF-6567-44A0-BC30-88E8AEDBDEE5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DFFB-81C1-4F62-B0B6-FBAB05BC2196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question, teacher assignments, student collabo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2A3F-06D2-43CE-AB00-82C64CFB3B34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question, teacher assignments, student collabo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09DF-6F0D-458B-A957-6EF53234A61E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question, teacher assignments, student collabo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42C3-85B5-471B-B31C-E11B09624084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question, teacher assignments, student collabo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AF1D-56AD-4C9E-8C75-6C8AD87693D7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oodletools.com/noodlebib/usersguide/index.html?n=CreatingANotecar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EEAE-80B8-46AC-8608-2D5867ED265C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3E8-1476-438F-AA32-3983F8FE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17F-2A90-49E9-BECA-FD8B40A2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69D4-7FD5-4621-8514-1986A252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56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14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0020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56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14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B3E-35CA-408F-B123-0E3EDA10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B58-D83F-44C1-B679-A5CA39F9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47B-E3B9-4BEA-97F4-F5475E23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24B-6E4A-4D90-8B97-98FD7996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C4B6-70D1-4808-8200-C88A37DB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240" y="7596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72D-3467-44DF-98A5-1F31ABB1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DC9-229A-42A1-A173-BA3A10BA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4E9-D209-4F37-B23C-8BFA80A8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C60-8DC3-4CB8-9F54-B139647A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6b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8281-2ECB-4660-9F2A-7F74CB9FD8E1}" type="slidenum">
              <a:rPr b="0" lang="en-US" sz="14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Tools </a:t>
            </a:r>
            <a:br>
              <a:rPr sz="4400"/>
            </a:b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Helps you stay organized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aking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"/>
          <p:cNvPicPr/>
          <p:nvPr/>
        </p:nvPicPr>
        <p:blipFill>
          <a:blip r:embed="rId1"/>
          <a:stretch/>
        </p:blipFill>
        <p:spPr>
          <a:xfrm>
            <a:off x="0" y="-130320"/>
            <a:ext cx="9144000" cy="7040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5157720" y="66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735440" y="1295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752480" y="5664240"/>
            <a:ext cx="5410440" cy="5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Everything stays linked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3" name="Double Bracket 7"/>
          <p:cNvSpPr/>
          <p:nvPr/>
        </p:nvSpPr>
        <p:spPr>
          <a:xfrm>
            <a:off x="304920" y="76320"/>
            <a:ext cx="8305560" cy="56386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33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676680" y="5029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eedback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4560"/>
          </a:xfrm>
          <a:prstGeom prst="rect">
            <a:avLst/>
          </a:prstGeom>
          <a:ln w="0">
            <a:noFill/>
          </a:ln>
        </p:spPr>
      </p:pic>
      <p:sp>
        <p:nvSpPr>
          <p:cNvPr id="86" name="Oval 1"/>
          <p:cNvSpPr/>
          <p:nvPr/>
        </p:nvSpPr>
        <p:spPr>
          <a:xfrm>
            <a:off x="4952880" y="76320"/>
            <a:ext cx="114300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71680" y="5873760"/>
            <a:ext cx="8001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Go to the tabletop to see all your notecard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4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152280" y="5873760"/>
            <a:ext cx="8915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475c"/>
                </a:solidFill>
                <a:latin typeface="Arial"/>
              </a:rPr>
              <a:t>Check the bird’s eye view for out-of-sight notecards</a:t>
            </a:r>
            <a:endParaRPr b="0" lang="en-US" sz="3000" spc="-1" strike="noStrike">
              <a:solidFill>
                <a:srgbClr val="406b8c"/>
              </a:solidFill>
              <a:latin typeface="Arial"/>
            </a:endParaRPr>
          </a:p>
        </p:txBody>
      </p:sp>
      <p:cxnSp>
        <p:nvCxnSpPr>
          <p:cNvPr id="90" name="Straight Arrow Connector 4"/>
          <p:cNvCxnSpPr/>
          <p:nvPr/>
        </p:nvCxnSpPr>
        <p:spPr>
          <a:xfrm flipH="1">
            <a:off x="990000" y="1981080"/>
            <a:ext cx="1524600" cy="2896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738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1257480" y="106200"/>
            <a:ext cx="662940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A notecard is an organizer for idea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685800" y="1828800"/>
            <a:ext cx="3581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py and paste here</a:t>
            </a:r>
            <a:br>
              <a:rPr sz="2800"/>
            </a:b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6b8c"/>
                </a:solidFill>
                <a:latin typeface="Arial"/>
              </a:rPr>
              <a:t>Capture the author’s words and images</a:t>
            </a: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6b8c"/>
                </a:solidFill>
                <a:latin typeface="Arial"/>
              </a:rPr>
              <a:t>Get quotes and attribution right</a:t>
            </a: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6b8c"/>
                </a:solidFill>
                <a:latin typeface="Arial"/>
              </a:rPr>
              <a:t>Mark up the quote</a:t>
            </a: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7388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828800" y="106200"/>
            <a:ext cx="487692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Paraphrase or summariz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105520" y="26686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raphrase her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6b8c"/>
                </a:solidFill>
                <a:latin typeface="Arial"/>
              </a:rPr>
              <a:t>Explain it to yourself</a:t>
            </a: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6b8c"/>
                </a:solidFill>
                <a:latin typeface="Arial"/>
              </a:rPr>
              <a:t>In words you understand</a:t>
            </a: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6b8c"/>
                </a:solidFill>
                <a:latin typeface="Arial"/>
              </a:rPr>
              <a:t>Look back at the quote – got it all?</a:t>
            </a: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7388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2590920" y="4952880"/>
            <a:ext cx="3624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iginal thinking her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6b8c"/>
                </a:solidFill>
                <a:latin typeface="Arial"/>
              </a:rPr>
              <a:t>What do you wonder?</a:t>
            </a: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6b8c"/>
                </a:solidFill>
                <a:latin typeface="Arial"/>
              </a:rPr>
              <a:t>How does this fit with what you know?</a:t>
            </a: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6b8c"/>
                </a:solidFill>
                <a:latin typeface="Arial"/>
              </a:rPr>
              <a:t>What can you follow up on?</a:t>
            </a: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7200" y="106200"/>
            <a:ext cx="822960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My Ideas” is for questions, brainstorming…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Users\Debbie\Documents\1.Debbie\NoodleTools\Tutorials\Students\2012\2012 imagesNotes\second\notecard_copypaste.png"/>
          <p:cNvPicPr/>
          <p:nvPr/>
        </p:nvPicPr>
        <p:blipFill>
          <a:blip r:embed="rId1"/>
          <a:stretch/>
        </p:blipFill>
        <p:spPr>
          <a:xfrm>
            <a:off x="2232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8"/>
          <p:cNvSpPr/>
          <p:nvPr/>
        </p:nvSpPr>
        <p:spPr>
          <a:xfrm>
            <a:off x="609480" y="5334120"/>
            <a:ext cx="7620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You’ll get quotes and attribution right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2057400" y="166680"/>
            <a:ext cx="4876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Then start to mark it up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C:\Users\Debbie\Documents\1.Debbie\NoodleTools\Tutorials\Students\2012\2012 imagesNotes\second\notecard_red.png"/>
          <p:cNvPicPr/>
          <p:nvPr/>
        </p:nvPicPr>
        <p:blipFill>
          <a:blip r:embed="rId1"/>
          <a:stretch/>
        </p:blipFill>
        <p:spPr>
          <a:xfrm>
            <a:off x="2232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  <a:ea typeface="ＭＳ Ｐゴシック"/>
              </a:rPr>
              <a:t>What is </a:t>
            </a:r>
            <a:r>
              <a:rPr b="0" lang="en-US" sz="3600" spc="-1" strike="noStrike">
                <a:solidFill>
                  <a:srgbClr val="2a475c"/>
                </a:solidFill>
                <a:latin typeface="Arial"/>
                <a:ea typeface="ＭＳ Ｐゴシック"/>
              </a:rPr>
              <a:t>NoodleTools?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  <a:ea typeface="ＭＳ Ｐゴシック"/>
              </a:rPr>
              <a:t>Gather, organize, think, create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  <a:ea typeface="ＭＳ Ｐゴシック"/>
              </a:rPr>
              <a:t>Begin a working bibliography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  <a:ea typeface="ＭＳ Ｐゴシック"/>
              </a:rPr>
              <a:t>Copy-and-paste relevant quotes onto notecards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  <a:ea typeface="ＭＳ Ｐゴシック"/>
              </a:rPr>
              <a:t>Paraphrase the author</a:t>
            </a:r>
            <a:r>
              <a:rPr b="0" lang="ja-JP" sz="2600" spc="-1" strike="noStrike">
                <a:solidFill>
                  <a:srgbClr val="406b8c"/>
                </a:solidFill>
                <a:latin typeface="Arial"/>
                <a:ea typeface="ＭＳ Ｐゴシック"/>
              </a:rPr>
              <a:t>’</a:t>
            </a:r>
            <a:r>
              <a:rPr b="0" lang="en-US" sz="2600" spc="-1" strike="noStrike">
                <a:solidFill>
                  <a:srgbClr val="406b8c"/>
                </a:solidFill>
                <a:latin typeface="Arial"/>
                <a:ea typeface="ＭＳ Ｐゴシック"/>
              </a:rPr>
              <a:t>s words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  <a:ea typeface="ＭＳ Ｐゴシック"/>
              </a:rPr>
              <a:t>Analyze, question and add your own ideas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  <a:ea typeface="ＭＳ Ｐゴシック"/>
              </a:rPr>
              <a:t>Tag and pile your notes – what emerges? 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  <a:ea typeface="ＭＳ Ｐゴシック"/>
              </a:rPr>
              <a:t>Create an outline, add piles – reorder and experiment!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  <a:ea typeface="ＭＳ Ｐゴシック"/>
              </a:rPr>
              <a:t>Create [essay, speech, product…] with a bibliography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461880" y="4952880"/>
            <a:ext cx="79963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Close reading boosts your comprehension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3352680" y="533520"/>
            <a:ext cx="99072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457440" y="15228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elp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2743200" y="380880"/>
            <a:ext cx="4191120" cy="70956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Explain it to yourself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12" name="Oval 1"/>
          <p:cNvSpPr/>
          <p:nvPr/>
        </p:nvSpPr>
        <p:spPr>
          <a:xfrm>
            <a:off x="7620120" y="1447920"/>
            <a:ext cx="99036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886440" y="153180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elp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1006560" y="3962520"/>
            <a:ext cx="693396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75c"/>
                </a:solidFill>
                <a:latin typeface="Arial"/>
              </a:rPr>
              <a:t>If you have trouble identifying a main idea: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>
              <a:buClr>
                <a:srgbClr val="2a47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75c"/>
                </a:solidFill>
                <a:latin typeface="Arial"/>
              </a:rPr>
              <a:t>Reread the quote to get the “gist.” 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>
              <a:buClr>
                <a:srgbClr val="2a47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75c"/>
                </a:solidFill>
                <a:latin typeface="Arial"/>
              </a:rPr>
              <a:t>Is there more than one main idea? If so, just split your quote into two notecards.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17" name="Oval 2"/>
          <p:cNvSpPr/>
          <p:nvPr/>
        </p:nvSpPr>
        <p:spPr>
          <a:xfrm>
            <a:off x="7618320" y="3886200"/>
            <a:ext cx="99072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883560" y="3970440"/>
            <a:ext cx="7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elp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"/>
          <p:cNvSpPr/>
          <p:nvPr/>
        </p:nvSpPr>
        <p:spPr>
          <a:xfrm>
            <a:off x="1271520" y="3809880"/>
            <a:ext cx="66009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Use “My Ideas” in a flexible way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>
            <a:off x="533520" y="1143000"/>
            <a:ext cx="36576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If your note isn’t linked to a source, find it in this list of all your sourc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609480" y="228600"/>
            <a:ext cx="51818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If you can, add a tag now…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5791320" y="914400"/>
            <a:ext cx="1143000" cy="958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1"/>
          <p:cNvSpPr/>
          <p:nvPr/>
        </p:nvSpPr>
        <p:spPr>
          <a:xfrm>
            <a:off x="4191120" y="990720"/>
            <a:ext cx="1295280" cy="266688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2666880"/>
              <a:gd name="textAreaBottom" fmla="*/ 2603880 h 2666880"/>
            </a:gdLst>
            <a:ahLst/>
            <a:rect l="textAreaLeft" t="textAreaTop" r="textAreaRight" b="textAreaBottom"/>
            <a:pathLst>
              <a:path w="21600" h="44466">
                <a:moveTo>
                  <a:pt x="3600" y="0"/>
                </a:moveTo>
                <a:arcTo wR="3600" hR="3600" stAng="16200000" swAng="-5400000"/>
                <a:lnTo>
                  <a:pt x="0" y="40866"/>
                </a:lnTo>
                <a:arcTo wR="3600" hR="3600" stAng="10800000" swAng="-5400000"/>
                <a:lnTo>
                  <a:pt x="18000" y="444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609480" y="228600"/>
            <a:ext cx="7315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when you know more it will be easier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114480" y="5638680"/>
            <a:ext cx="8915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Your new notecards are waiting on the tabletop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76320" y="1698480"/>
            <a:ext cx="914400" cy="1676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5029200" y="76320"/>
            <a:ext cx="91440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152280" y="5562720"/>
            <a:ext cx="88394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475c"/>
                </a:solidFill>
                <a:latin typeface="Arial"/>
              </a:rPr>
              <a:t>Add colors and cues to remind yourself what needs to be done and what’s important.</a:t>
            </a:r>
            <a:endParaRPr b="0" lang="en-US" sz="30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990720" y="914400"/>
            <a:ext cx="6858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Your work is organized into projects.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 flipV="1">
            <a:off x="1752480" y="3962520"/>
            <a:ext cx="9144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 flipV="1">
            <a:off x="6858000" y="1676160"/>
            <a:ext cx="1447920" cy="3733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93560" y="5257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a202"/>
                </a:solidFill>
                <a:latin typeface="Arial"/>
              </a:rPr>
              <a:t>Open an existing project …or start a new on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9"/>
          <p:cNvSpPr/>
          <p:nvPr/>
        </p:nvSpPr>
        <p:spPr>
          <a:xfrm>
            <a:off x="990720" y="5638680"/>
            <a:ext cx="7086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Search tags to highlight related idea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37" name="Oval 3"/>
          <p:cNvSpPr/>
          <p:nvPr/>
        </p:nvSpPr>
        <p:spPr>
          <a:xfrm>
            <a:off x="5943600" y="838080"/>
            <a:ext cx="1523880" cy="784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228600" y="5643720"/>
            <a:ext cx="8763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475c"/>
                </a:solidFill>
                <a:latin typeface="Arial"/>
              </a:rPr>
              <a:t>Create a new pile from your highlighted notecards</a:t>
            </a:r>
            <a:endParaRPr b="0" lang="en-US" sz="30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76320" y="5638680"/>
            <a:ext cx="8915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475c"/>
                </a:solidFill>
                <a:latin typeface="Arial"/>
              </a:rPr>
              <a:t>Piles are possible subtopics for an outline</a:t>
            </a:r>
            <a:endParaRPr b="0" lang="en-US" sz="30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3962520" y="3733920"/>
            <a:ext cx="723960" cy="707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4324320" y="2971800"/>
            <a:ext cx="723960" cy="708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4838760" y="3733920"/>
            <a:ext cx="723960" cy="707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5791320" y="2590920"/>
            <a:ext cx="3346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Build your outline 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on-the-fly…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48" name="Oval 5"/>
          <p:cNvSpPr/>
          <p:nvPr/>
        </p:nvSpPr>
        <p:spPr>
          <a:xfrm>
            <a:off x="6172200" y="1219320"/>
            <a:ext cx="2666880" cy="2361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09480" y="59436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or create it before you take notes.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02808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Line 5"/>
          <p:cNvSpPr/>
          <p:nvPr/>
        </p:nvSpPr>
        <p:spPr>
          <a:xfrm flipV="1">
            <a:off x="4267080" y="2819520"/>
            <a:ext cx="2438640" cy="1752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09480" y="5867280"/>
            <a:ext cx="8001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Drag notes and piles into your outlin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02808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2933640" y="990720"/>
            <a:ext cx="3143160" cy="58672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3124080" y="4343400"/>
            <a:ext cx="5639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Watch your outline grow as you add notecard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909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Organize flexibly and playfully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What notes have similar titles or topics? 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Pile them together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Add them to your outline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Experiment with the order, be curious!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What if I make new combinations of notes? 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Search by one or more tags to find common ideas among notes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What other ways can I order my outline?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Do new grouping suggest new ways to analyze what I know?  New ideas?  New questions?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95160" y="-360"/>
            <a:ext cx="649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Review, reflect, reorder, revis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a202"/>
                </a:solidFill>
                <a:latin typeface="Arial"/>
              </a:rPr>
              <a:t>When you think you’re done, take another look!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Can I add </a:t>
            </a:r>
            <a:r>
              <a:rPr b="0" i="1" lang="en-US" sz="2600" spc="-1" strike="noStrike">
                <a:solidFill>
                  <a:srgbClr val="406b8c"/>
                </a:solidFill>
                <a:latin typeface="Arial"/>
              </a:rPr>
              <a:t>more tags </a:t>
            </a: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now that I know more?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Label details, themes, concepts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Other ways to order my ideas?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Reorder by searching on 2-3 tags at once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Any loose ends?</a:t>
            </a:r>
            <a:br>
              <a:rPr sz="2600"/>
            </a:b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Are there types of sources I missed</a:t>
            </a: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Use           button to see the type and range of sources you used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</p:txBody>
      </p:sp>
      <p:pic>
        <p:nvPicPr>
          <p:cNvPr id="160" name="Picture 3" descr="6 Analysis_button.png"/>
          <p:cNvPicPr/>
          <p:nvPr/>
        </p:nvPicPr>
        <p:blipFill>
          <a:blip r:embed="rId1"/>
          <a:stretch/>
        </p:blipFill>
        <p:spPr>
          <a:xfrm>
            <a:off x="2133720" y="5848200"/>
            <a:ext cx="723960" cy="24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3657600" y="3886200"/>
            <a:ext cx="1533600" cy="140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followup2"/>
          <p:cNvPicPr/>
          <p:nvPr/>
        </p:nvPicPr>
        <p:blipFill>
          <a:blip r:embed="rId1"/>
          <a:stretch/>
        </p:blipFill>
        <p:spPr>
          <a:xfrm>
            <a:off x="0" y="2286000"/>
            <a:ext cx="8555040" cy="44006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Don’t forget to follow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your</a:t>
            </a: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ideas</a:t>
            </a: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2a475c"/>
              </a:solidFill>
              <a:latin typeface="Arial"/>
            </a:endParaRPr>
          </a:p>
        </p:txBody>
      </p:sp>
      <p:pic>
        <p:nvPicPr>
          <p:cNvPr id="164" name="Picture 4" descr="followup1"/>
          <p:cNvPicPr/>
          <p:nvPr/>
        </p:nvPicPr>
        <p:blipFill>
          <a:blip r:embed="rId2"/>
          <a:stretch/>
        </p:blipFill>
        <p:spPr>
          <a:xfrm>
            <a:off x="533520" y="1295280"/>
            <a:ext cx="8516880" cy="32673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609480" y="3352680"/>
            <a:ext cx="6858000" cy="114300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04920" y="5334120"/>
            <a:ext cx="7696080" cy="10666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2514600" y="146160"/>
            <a:ext cx="647712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75c"/>
                </a:solidFill>
                <a:latin typeface="Arial"/>
              </a:rPr>
              <a:t>Manage your project from the Dashboard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76320" y="22320"/>
            <a:ext cx="1904760" cy="434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9120" y="685440"/>
            <a:ext cx="81057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475c"/>
                </a:solidFill>
                <a:latin typeface="Arial"/>
              </a:rPr>
              <a:t>It’s easy to add more sources if you need to!</a:t>
            </a:r>
            <a:endParaRPr b="0" lang="en-US" sz="30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C:\Users\Debbie\Documents\1.Debbie\NoodleTools\Tutorials\Students\2012\2012 imagesNotes\second\archived.png"/>
          <p:cNvPicPr/>
          <p:nvPr/>
        </p:nvPicPr>
        <p:blipFill>
          <a:blip r:embed="rId1"/>
          <a:stretch/>
        </p:blipFill>
        <p:spPr>
          <a:xfrm>
            <a:off x="517680" y="1595520"/>
            <a:ext cx="8107200" cy="3666960"/>
          </a:xfrm>
          <a:prstGeom prst="rect">
            <a:avLst/>
          </a:prstGeom>
          <a:ln w="0">
            <a:noFill/>
          </a:ln>
        </p:spPr>
      </p:pic>
      <p:sp>
        <p:nvSpPr>
          <p:cNvPr id="170" name="Oval 9"/>
          <p:cNvSpPr/>
          <p:nvPr/>
        </p:nvSpPr>
        <p:spPr>
          <a:xfrm>
            <a:off x="504720" y="3048120"/>
            <a:ext cx="175284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990720" y="53341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and your work can never get lost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362320" y="1522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475c"/>
                </a:solidFill>
                <a:latin typeface="Arial"/>
              </a:rPr>
              <a:t>You can create a portfolio over time…</a:t>
            </a:r>
            <a:endParaRPr b="0" lang="en-US" sz="30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6553080" y="4724280"/>
            <a:ext cx="2071800" cy="538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Use your “noodle”!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tay organized, feel successfu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ccess your work from home and school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afeguard against accidental plagiarism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pend your time thinking and creating (not on commas)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Get curious, feel creative…have fun!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” time…start thinking!</a:t>
            </a:r>
            <a:endParaRPr b="0" lang="en-US" sz="4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486400" y="59436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or more teaching ideas: 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upport [at] noodletools [dot] com</a:t>
            </a: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141120" y="380880"/>
            <a:ext cx="7391520" cy="2362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029200" y="457200"/>
            <a:ext cx="40384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75c"/>
                </a:solidFill>
                <a:latin typeface="Arial"/>
              </a:rPr>
              <a:t>Find “big picture” info here: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>
              <a:buClr>
                <a:srgbClr val="2a47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75c"/>
                </a:solidFill>
                <a:latin typeface="Arial"/>
              </a:rPr>
              <a:t>Research question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>
              <a:buClr>
                <a:srgbClr val="2a47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75c"/>
                </a:solidFill>
                <a:latin typeface="Arial"/>
              </a:rPr>
              <a:t>Assignments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>
              <a:buClr>
                <a:srgbClr val="2a47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75c"/>
                </a:solidFill>
                <a:latin typeface="Arial"/>
              </a:rPr>
              <a:t>Group members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76320" y="2873520"/>
            <a:ext cx="1904760" cy="19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638680" y="152280"/>
            <a:ext cx="331488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All your work is here including a record of what you’ve done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pic>
        <p:nvPicPr>
          <p:cNvPr id="67" name="Picture 2" descr="C:\Users\Debbie\AppData\Local\Temp\SNAGHTML40d39b68.PNG"/>
          <p:cNvPicPr/>
          <p:nvPr/>
        </p:nvPicPr>
        <p:blipFill>
          <a:blip r:embed="rId2"/>
          <a:stretch/>
        </p:blipFill>
        <p:spPr>
          <a:xfrm>
            <a:off x="5562720" y="2286000"/>
            <a:ext cx="3427200" cy="4255920"/>
          </a:xfrm>
          <a:prstGeom prst="rect">
            <a:avLst/>
          </a:prstGeom>
          <a:ln w="0">
            <a:noFill/>
          </a:ln>
        </p:spPr>
      </p:pic>
      <p:sp>
        <p:nvSpPr>
          <p:cNvPr id="68" name="Oval 10"/>
          <p:cNvSpPr/>
          <p:nvPr/>
        </p:nvSpPr>
        <p:spPr>
          <a:xfrm>
            <a:off x="3695760" y="990720"/>
            <a:ext cx="1752480" cy="75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5029200" y="1676520"/>
            <a:ext cx="6094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1905120" y="2895480"/>
            <a:ext cx="7162560" cy="198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905120" y="2133720"/>
            <a:ext cx="70866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You can add reminders to yourself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76320" y="4800600"/>
            <a:ext cx="8991360" cy="19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228600" y="4191120"/>
            <a:ext cx="867096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75c"/>
                </a:solidFill>
                <a:latin typeface="Arial"/>
              </a:rPr>
              <a:t>Read feedback … then revise in an organized way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4543560" y="4648320"/>
            <a:ext cx="3581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2a47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See feedback right on your notecard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04920" y="5924520"/>
            <a:ext cx="3047760" cy="628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4:27:40Z</dcterms:created>
  <dc:creator>admin</dc:creator>
  <dc:description/>
  <dc:language>en-US</dc:language>
  <cp:lastModifiedBy>Debbie Abilock</cp:lastModifiedBy>
  <dcterms:modified xsi:type="dcterms:W3CDTF">2012-07-24T14:55:17Z</dcterms:modified>
  <cp:revision>184</cp:revision>
  <dc:subject/>
  <dc:title>Slide 1</dc:title>
</cp:coreProperties>
</file>